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9.xml"/><Relationship Id="rId3" Type="http://schemas.openxmlformats.org/officeDocument/2006/relationships/slide" Target="slide1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9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9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9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uk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0280" y="5493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endCxn id="101" idx="1"/>
          </p:cNvCxnSpPr>
          <p:nvPr/>
        </p:nvCxnSpPr>
        <p:spPr>
          <a:xfrm flipV="1">
            <a:off x="3313080" y="2729520"/>
            <a:ext cx="2699280" cy="135216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endCxn id="103" idx="1"/>
          </p:cNvCxnSpPr>
          <p:nvPr/>
        </p:nvCxnSpPr>
        <p:spPr>
          <a:xfrm flipV="1">
            <a:off x="3313080" y="4080600"/>
            <a:ext cx="2699280" cy="72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utr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7" idx="3"/>
            <a:endCxn id="15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4880" y="54936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eutrophi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it 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63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4" name=""/>
          <p:cNvCxnSpPr>
            <a:stCxn id="161" idx="3"/>
            <a:endCxn id="165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6" name=""/>
          <p:cNvCxnSpPr>
            <a:stCxn id="161" idx="3"/>
            <a:endCxn id="167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16360" y="549360"/>
            <a:ext cx="69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 Linksverschieb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5640" y="549360"/>
            <a:ext cx="71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 Linksverschieb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ntzünd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0" idx="3"/>
            <a:endCxn id="17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kteriell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arvovirose in Regenera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oon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Über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ntzündungsmediato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mittel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8" idx="3"/>
            <a:endCxn id="17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9" name=""/>
          <p:cNvCxnSpPr>
            <a:stCxn id="178" idx="3"/>
            <a:endCxn id="17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955440" y="549360"/>
            <a:ext cx="29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2" idx="3"/>
            <a:endCxn id="18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5" name=""/>
          <p:cNvCxnSpPr>
            <a:stCxn id="182" idx="3"/>
            <a:endCxn id="18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eosinophi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yndr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osinophilenleu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17080" y="549360"/>
            <a:ext cx="62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osinophi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nkontrollierte Über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tzündungsmediato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oduzier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2" idx="3"/>
            <a:endCxn id="18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3" name=""/>
          <p:cNvCxnSpPr>
            <a:stCxn id="192" idx="3"/>
            <a:endCxn id="19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1103760" y="549360"/>
            <a:ext cx="65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osin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ntzündungsmediator-vermittel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tzündungsmediato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ermittel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tzündungsmediato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duzier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3"/>
            <a:endCxn id="19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9" name=""/>
          <p:cNvCxnSpPr>
            <a:stCxn id="196" idx="3"/>
            <a:endCxn id="200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tzell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42840" y="549360"/>
            <a:ext cx="68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osinophil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ntzündungsmediator-vermittel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osinophil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ntzündungsmediator-produzierende 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6" name=""/>
          <p:cNvCxnSpPr>
            <a:stCxn id="203" idx="3"/>
            <a:endCxn id="2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stzellrei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rga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3"/>
            <a:endCxn id="208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103760" y="549360"/>
            <a:ext cx="65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osin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ntzündungsmediator-vermittel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osinophi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351792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ler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tzellrei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ga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91880" y="549360"/>
            <a:ext cx="67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osin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ntzündungsmediator-vermittel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osinophi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ntzünd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ntzündung mastzellreicher Orga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2" idx="3"/>
            <a:endCxn id="2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ar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ter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552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tigenstimu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9" idx="3"/>
            <a:endCxn id="220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1" name=""/>
          <p:cNvCxnSpPr>
            <a:stCxn id="219" idx="3"/>
            <a:endCxn id="21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9" idx="3"/>
            <a:endCxn id="222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954000" y="549360"/>
            <a:ext cx="31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ymph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zyt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10" idx="3"/>
            <a:endCxn id="10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10" idx="3"/>
            <a:endCxn id="10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948600" y="549360"/>
            <a:ext cx="29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utr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22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9" name=""/>
          <p:cNvCxnSpPr>
            <a:stCxn id="226" idx="3"/>
            <a:endCxn id="230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at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u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ig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leukämische Form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83600" y="549360"/>
            <a:ext cx="57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ozyt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nkontrollierte Bil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tigenstimu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3"/>
            <a:endCxn id="235" idx="1"/>
          </p:cNvCxnSpPr>
          <p:nvPr/>
        </p:nvCxnSpPr>
        <p:spPr>
          <a:xfrm flipV="1">
            <a:off x="3312720" y="3408120"/>
            <a:ext cx="2699640" cy="67320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6" name=""/>
          <p:cNvCxnSpPr>
            <a:stCxn id="233" idx="3"/>
            <a:endCxn id="237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pf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56960" y="5493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ozyt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tigenstimu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21360" y="284652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eLV-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ronisch-eitrige 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Pyometra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01240" y="5493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ozyt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tigenstimu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6153480"/>
            <a:ext cx="285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56960" y="549360"/>
            <a:ext cx="58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ozyt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influss von 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T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ea typeface="Arial"/>
                <a:hlinkClick r:id="rId7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50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51" name=""/>
          <p:cNvCxnSpPr>
            <a:stCxn id="246" idx="3"/>
            <a:endCxn id="24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lukokortikoid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9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6" idx="3"/>
            <a:endCxn id="252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pinephri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1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200" y="6363360"/>
            <a:ext cx="1380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Thyrox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pinephr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25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6012000" y="351792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ess bei jun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sunden Kat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3040" y="549360"/>
            <a:ext cx="78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zytose &gt; Einfluss von Hormonen &gt; Epinephrin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3"/>
            <a:endCxn id="26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6012000" y="351792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9160" y="549360"/>
            <a:ext cx="69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zytose &gt; Einfluss von Hormonen &gt; T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9200" y="6363360"/>
            <a:ext cx="1380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Thyrox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7" idx="3"/>
            <a:endCxn id="26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6012000" y="351792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renokortizi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549360"/>
            <a:ext cx="64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zytose &gt; Einfluss von Hormonen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lukokortikoid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ntralisie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3"/>
            <a:endCxn id="11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4" idx="3"/>
            <a:endCxn id="11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1065600" y="549360"/>
            <a:ext cx="56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utrophi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hne 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daption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nochenmarks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chron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erbra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aption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chenmarks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3560" y="549360"/>
            <a:ext cx="72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Linksverschieb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dapt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nochenmarks an chronischen Verbra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3"/>
            <a:endCxn id="12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 bakteri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Zentralisie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36520" y="549360"/>
            <a:ext cx="74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Zentralisie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Leukozytenadhäs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otein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Beschleun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lutfluss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endCxn id="12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1" name=""/>
          <p:cNvCxnSpPr>
            <a:stCxn id="126" idx="3"/>
            <a:endCxn id="12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ukozytenadhäs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36520" y="549360"/>
            <a:ext cx="74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Zentralisie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utrophilenpool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s Leukozytenadhäsionsprotein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3" idx="3"/>
            <a:endCxn id="137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3" idx="3"/>
            <a:endCxn id="13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rish Sett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2" idx="3"/>
            <a:endCxn id="14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36520" y="549360"/>
            <a:ext cx="742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Zentralisie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utrophilenpool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s Leukozytenadhäsionsprotein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6520" y="549360"/>
            <a:ext cx="742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Zentralisie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utrophilenpool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s Leukozytenadhäsionsprotein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rworb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influss 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3"/>
            <a:endCxn id="14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schleunigung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fluss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36520" y="549360"/>
            <a:ext cx="74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zyto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Linksverschieb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Zentralisie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es Neutrophilenpool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Beschleunigung des Blutfluss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3"/>
            <a:endCxn id="15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00:48Z</dcterms:modified>
  <cp:revision>329</cp:revision>
  <dc:subject/>
  <dc:title>Vorstellung einer Neuheit</dc:title>
</cp:coreProperties>
</file>